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31D-7366-4258-92B6-40E379C0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077-F3CF-4DB1-9D68-BB7CC7E4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1C4-B5E8-4880-AD0B-42411C8E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F08-1AD9-41D7-9472-C0C3A0C6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2E0A-78B7-4867-9139-2BCA91C3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CFE0-1B39-4501-9AB3-F818D0BA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99F8-1A92-427B-9BBC-342123D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279D-6775-42AD-A34D-C0E2FA67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5C12-8873-4D98-B65F-A913C7D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854B-D449-4296-8481-FCAD25E3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2D9F-22E3-4DA7-A895-C183D88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573-7011-4EF6-8052-82182E8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5682-47B2-4358-A462-3E990C3F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A67F-2351-4A34-85AB-CEFE067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0AEF-F5E6-4030-AA19-89FA1AF8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922F-EE60-485A-A883-6C933AB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0F7-F19C-4084-B91B-CA3566F7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9F8-FE0B-46DF-BC99-2A89533B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ECB-360E-438A-B3E1-6F3338D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CEB-085B-429C-8932-BB446B8A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868-C91A-4BF2-A672-82A391C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1C9-220C-4755-B07E-CFE31B4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1E2-8F17-4DC4-A413-A9F92666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859-4128-44DF-AD0A-704738D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68B-1155-4CD9-8190-3F1609B3F6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29B-6C56-4C6F-B02F-78C1CC9998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vel.nationalgeographic.com/places/countries/country_kazakhstan.html" TargetMode="External"/><Relationship Id="rId2" Type="http://schemas.openxmlformats.org/officeDocument/2006/relationships/hyperlink" Target="https://www.cia.gov/library/publications/the-world-factbook/geos/kz.html" TargetMode="External"/><Relationship Id="rId3" Type="http://schemas.openxmlformats.org/officeDocument/2006/relationships/hyperlink" Target="http://news.bbc.co.uk/2/hi/asia-pacific/7878824.stm" TargetMode="External"/><Relationship Id="rId4" Type="http://schemas.openxmlformats.org/officeDocument/2006/relationships/hyperlink" Target="http://aboutkazakhstan.com/images/pavlodar-kazakhstan-region-views-6.jpg" TargetMode="External"/><Relationship Id="rId5" Type="http://schemas.openxmlformats.org/officeDocument/2006/relationships/hyperlink" Target="http://aboutkazakhstan.com/images/south-kazakhstan-region-views-1.jpg" TargetMode="External"/><Relationship Id="rId6" Type="http://schemas.openxmlformats.org/officeDocument/2006/relationships/hyperlink" Target="http://industry.bnet.com/energy/images/caspian_sea_j2005.jpg" TargetMode="External"/><Relationship Id="rId7" Type="http://schemas.openxmlformats.org/officeDocument/2006/relationships/hyperlink" Target="http://www.wild-natures.com/picture/map_kazakhstan_temperature_july.png" TargetMode="External"/><Relationship Id="rId8" Type="http://schemas.openxmlformats.org/officeDocument/2006/relationships/hyperlink" Target="http://www.wild-natures.com/picture/map_kazakhstan_temperature_january.png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Welcome to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Kazakhsta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Cody Grimm, Alex Masenhei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laces to Vis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capitol, Astana there is a tower, Baiterek Tower. Total 105 meters, at 97 meters there is an observation deck .In the tower there is an art gallery, aquarium and a restaura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akol Lake is the biggest lake of the chain of Alakol lakes. Water is warm and a average temp of the water is 26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Work Cit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http://travel.nationalgeographic.com/places/countries/country_kazakhstan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https://www.cia.gov/library/publications/the-world-factbook/geos/kz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http://news.bbc.co.uk/2/hi/asia-pacific/7878824.st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http://aboutkazakhstan.com/images/pavlodar-kazakhstan-region-views-6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http://aboutkazakhstan.com/images/south-kazakhstan-region-views-1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6"/>
              </a:rPr>
              <a:t>http://industry.bnet.com/energy/images/caspian_sea_j2005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7"/>
              </a:rPr>
              <a:t>http://www.wild-natures.com/picture/map_kazakhstan_temperature_jul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Verdana"/>
                <a:hlinkClick r:id="rId8"/>
              </a:rPr>
              <a:t>http://www.wild-natures.com/picture/map_kazakhstan_temperature_january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aboutkazakhstan.com/images/kazakhstan-political-government-systems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uniserv.kz/uploads/posts/2008-08/1220008071_1.p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faqs.org/docs/factbook/maps/kz-map.gi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travel-images.com/kazakhstan15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Verdana"/>
              </a:rPr>
              <a:t>http://www.allcountries.eu/PICTURE/kazakhstan/Astana.jp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The Land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locked and dry l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ed in central As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t in the west and rises to high mountains in the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degrees North and 68 degrees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717,300 Square Kilo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ightly less than four times the size of Tex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lds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iggest coun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Land Cont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west Caspian sea is polluted from pestici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kes Balqash that is located in the e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 deposits of petroleum, natural gas, iron ore and mangane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 use Arable land 8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arding countries are china, Kyrgyzstan, Russia, Turkmenistan, Uzbekist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5053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mate/Veget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en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d Wi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 Sum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and is also a test site for nuclear weapons so the land is poisoned from the radioactiv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3848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vernment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 name is Republic of Kazakhs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ublic and has Presidential ru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tle power out of executive bra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apitol is Ast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5,090,000 People live t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fe Expectancy is 6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le to vote at the age of 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isto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me independent from the Soviet Union on December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constitution was adopted January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Constitution was adopted August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99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29360" y="1447920"/>
            <a:ext cx="3914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urrent Ev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azakhstan on Monday, February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as agreed to letting the US to ship non-military items thru a transport to the parts of territory that the US has in Afghanist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2769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conom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8% Litera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bor force is 8.358 Mill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cy is the t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oil distribu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source of income is from extracting minerals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mployment rate is 6.9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riculture-31.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- 18.4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ces- 50%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3165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ul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ce Day is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December. It was started in 199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guages spoken are mostly Russian and Kazak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religious are Muslim and Russian Orthodo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1:22Z</dcterms:created>
  <dc:creator>codyrgrimm</dc:creator>
  <dc:description/>
  <dc:language>en-US</dc:language>
  <cp:lastModifiedBy>codyrgrimm</cp:lastModifiedBy>
  <dcterms:modified xsi:type="dcterms:W3CDTF">2009-02-19T17:38:40Z</dcterms:modified>
  <cp:revision>14</cp:revision>
  <dc:subject/>
  <dc:title>Slide 1</dc:title>
</cp:coreProperties>
</file>